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584-FF99-4652-8FC3-DFFB97EC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8EB-6819-4E76-9DDB-B78AB29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8F5-40BF-4E69-BF2D-D1E4206E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5D2-DF3C-429C-8C04-0422666F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D4F-1A8A-4F36-BFC5-717FE09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E2A-F3D1-4CC8-9365-290DD6FE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E85-40E5-4BA7-AFD1-4D1974D8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D13-95A5-4207-9AD0-64D99FDB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71A-2982-44C2-B753-379E75DF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BD8-0E6F-4539-B8C9-35DE3E2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2F1-729C-48E3-97F5-8299EA8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ECE-D19D-453C-893D-CCD7D0D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38F0-88AD-485E-AF5C-41AA32395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cialstudies.org/notable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roline C. Sheffield, Ph.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iversity of Louisvi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reading zone"/>
          <p:cNvPicPr/>
          <p:nvPr/>
        </p:nvPicPr>
        <p:blipFill>
          <a:blip r:embed="rId1"/>
          <a:stretch/>
        </p:blipFill>
        <p:spPr>
          <a:xfrm>
            <a:off x="3193920" y="1895400"/>
            <a:ext cx="27432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Where to find goo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social studies trade books…</a:t>
            </a:r>
            <a:br>
              <a:rPr sz="3600"/>
            </a:b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socialstudies.org/nota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2457360" cy="263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3735360" cy="268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" name="Picture 9" descr="Current Notable Cover"/>
          <p:cNvPicPr/>
          <p:nvPr/>
        </p:nvPicPr>
        <p:blipFill>
          <a:blip r:embed="rId4"/>
          <a:stretch/>
        </p:blipFill>
        <p:spPr>
          <a:xfrm>
            <a:off x="2743200" y="2209680"/>
            <a:ext cx="2179800" cy="29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80880" y="144792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The Book-in-an-Hour technique is a modification of jig-saw readings.  In this activity an entire novel can be read in as little as one hou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clt.astate.edu/sparks/book%20images/Volume%202/Vol%202%20Iss%201/Devil%20on%20My%20Heels.jpg"/>
          <p:cNvPicPr/>
          <p:nvPr/>
        </p:nvPicPr>
        <p:blipFill>
          <a:blip r:embed="rId1"/>
          <a:stretch/>
        </p:blipFill>
        <p:spPr>
          <a:xfrm>
            <a:off x="5799240" y="1371600"/>
            <a:ext cx="2824200" cy="426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lephant"/>
              </a:rPr>
              <a:t>Book in an Hour- a 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990720" y="1371600"/>
            <a:ext cx="701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ribed by Cyrus F. Smith, Jr. in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ording Smith (1979) and Childrey (1980) this method is beneficial for a number of reasons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tivating students to read an entir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ing reluctant readers by limiting read alou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 assign chapters of varying sizes to students based on their reading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students to be introduced to a variety of literature in a 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summ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Book in an Hour – today’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1430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portunity to incorporate some of the available historical fiction and non-fictio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y to bring in multipl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literacy skills such as identifying main idea and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quires listening as well as 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does not take three weeks to read a no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066680"/>
            <a:ext cx="8381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Select an appropriat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Purchase 2 copies of the novel (paperbac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3: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ar the Book into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4: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mplete an appropriate pre-read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5: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istribute Book in an Hour form and provide time for students to read their sections and complete th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6: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tudents Report on their sections. Through the course of the presentation of the novel, students will write a one-sentence summary for each presented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7: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ave students complete an appropriate post-read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380880" y="228600"/>
            <a:ext cx="830592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A Book in an H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Book Title: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Author: 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Chapter/Section: ___________________________________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Characters featured in the section: 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Events that happened in this section: ____________________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19040" y="304920"/>
            <a:ext cx="8305920" cy="465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Draw a picture of the most important event in your section of th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5105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What are your predictions about what will happen in the rest of the story? 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838080"/>
            <a:ext cx="8458200" cy="575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1382040" y="-103320"/>
            <a:ext cx="67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uice ITC"/>
                <a:ea typeface="Calibri"/>
              </a:rPr>
              <a:t>Write a One-Sentence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8"/>
          <p:cNvSpPr/>
          <p:nvPr/>
        </p:nvSpPr>
        <p:spPr>
          <a:xfrm>
            <a:off x="228600" y="1274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lephant"/>
                <a:ea typeface="Calibri"/>
              </a:rPr>
              <a:t>Example Post-Reading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33520" y="1066680"/>
            <a:ext cx="80769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earch the historical event addressed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rite a summary pictur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rite the next chapter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vie poster for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AFT activity – writing to one of the characters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urn the book into a graphic nov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fe-size characte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henticate the no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0:33:42Z</dcterms:created>
  <dc:creator>Caroline Sheffield</dc:creator>
  <dc:description/>
  <dc:language>en-US</dc:language>
  <cp:lastModifiedBy>c0shef01</cp:lastModifiedBy>
  <dcterms:modified xsi:type="dcterms:W3CDTF">2012-01-19T20:30:26Z</dcterms:modified>
  <cp:revision>24</cp:revision>
  <dc:subject/>
  <dc:title>Embracing Literacy with a Book in an Hour</dc:title>
</cp:coreProperties>
</file>